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2A0-0A01-4925-AC38-BF9B8C59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9EA-1894-44B8-A826-CFCCDC7E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1AE-FA47-495C-BA74-9C070951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EE8-BF80-45F8-A1DB-B8D22E03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73C-5162-43BD-ACE6-8E8B1614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4F6-9F7E-4921-9226-44A1FF66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D74-9281-4412-A5C7-59B40AE2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D5C-7756-4A18-AE77-2465FFD8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1E9-1DF2-41F2-BDD2-D7BC8D5B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621-28EA-4D1F-A969-CA50F48B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28C-8081-40AE-93D6-8B3A141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5CB-90AE-4AE8-B689-E61BF01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EEC5-76EC-4594-BB34-BF17DDCD2FA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24:05Z</dcterms:modified>
  <cp:revision>209</cp:revision>
  <dc:subject/>
  <dc:title>Syntax Directed Translation and Intermediate Code</dc:title>
</cp:coreProperties>
</file>